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16204"/>
        <c:axId val="47025603"/>
      </c:barChart>
      <c:catAx>
        <c:axId val="89516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25603"/>
        <c:crosses val="autoZero"/>
        <c:auto val="1"/>
        <c:lblAlgn val="ctr"/>
        <c:lblOffset val="100"/>
        <c:noMultiLvlLbl val="0"/>
      </c:catAx>
      <c:valAx>
        <c:axId val="47025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16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D2D-2EC4-460B-A90C-AC66F022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8D4-096A-49F1-B407-04750AE2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66B-D93F-4837-9D78-07E13783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CAC-80E3-44E3-B700-970B3484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880-FBAB-4DE0-8728-11EB02A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3A8-CAAA-4DDD-8BEB-ED7A4B28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FAE-15FE-45D8-8B74-D8C566B3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D21-6CEA-4359-A98E-58AC2C16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DA6-7DB8-451A-9790-0B4CE67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FA9-84BB-48E3-A8B7-26160587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9AF-842D-49FE-9E44-B948EAF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3ED-07B7-48DB-B4D4-36EBD6E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7F788-111E-4C01-8CA6-F1588CE8DF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