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69765"/>
        <c:axId val="24256607"/>
      </c:barChart>
      <c:catAx>
        <c:axId val="15369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56607"/>
        <c:crosses val="autoZero"/>
        <c:auto val="1"/>
        <c:lblAlgn val="ctr"/>
        <c:lblOffset val="100"/>
        <c:noMultiLvlLbl val="0"/>
      </c:catAx>
      <c:valAx>
        <c:axId val="24256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69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F7C-6372-45FF-A700-B2AF74F0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8C8-D73C-419E-B83A-474BCE15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503-EA4A-4F98-984E-165DAC4D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6D3-0CBE-41FD-BF0F-07B55736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388-85FB-4123-8FA2-D5E60246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E14-861A-4DAF-8CAB-F513031C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987-F708-4437-A244-69B2C9C6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A40-A4BF-4D94-A206-8F1B4798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13A-C09C-4252-A82A-D4A94BCC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55A-3A00-4039-A891-CF81994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F52-F75F-4752-8C69-F0BB859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DEC-486B-48AB-AB3A-D343DB8B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3A6F9-9E18-4CF0-A95C-0A02252ED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