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6617808"/>
        <c:axId val="66885163"/>
      </c:barChart>
      <c:catAx>
        <c:axId val="1661780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885163"/>
        <c:crosses val="autoZero"/>
        <c:auto val="1"/>
        <c:lblAlgn val="ctr"/>
        <c:lblOffset val="100"/>
        <c:noMultiLvlLbl val="0"/>
      </c:catAx>
      <c:valAx>
        <c:axId val="6688516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61780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7173-1968-45FE-9D2F-E28DC544E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74DC-C0E4-419E-B180-F394671E2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6019-B2FF-4A56-A953-E1F444F82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9894-72EE-4C51-825A-16D1B64F1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E417-3BB7-4668-B897-E94DDD19E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DD5C-FE84-4805-896E-2B0EAFDCC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F4B6-5BB7-4D5E-BF4B-D2D582C6F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DB79-43A8-49DE-8AC9-198BCEC4C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5823-5BE2-408B-975E-965C86A55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44EC-A2C8-4E0D-96FE-C41816F2F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17E7-7F04-41F8-A2D0-2390EF403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0A74-DFA6-48C7-8798-F44DA7E34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DCDF5B-24D2-42C3-80F3-4B852BEC3A2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