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9625"/>
        <c:axId val="54355822"/>
      </c:barChart>
      <c:catAx>
        <c:axId val="6569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55822"/>
        <c:crosses val="autoZero"/>
        <c:auto val="1"/>
        <c:lblAlgn val="ctr"/>
        <c:lblOffset val="100"/>
        <c:noMultiLvlLbl val="0"/>
      </c:catAx>
      <c:valAx>
        <c:axId val="54355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B53-D44C-48C3-9C01-67A32D72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9AD-B695-4A93-A92F-29850A4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A8B-2062-494A-AD37-30DA824A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E9F-9CAB-4900-8121-429E72B7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118-A38E-49C9-AA53-24C5B1D7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B75-CC46-46D5-BB98-7492340B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3C7-8718-4321-87D2-2EBC3B5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644-5B85-4B03-AF16-A9C9AD22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A11-3D20-43E5-BA00-AC7B782B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932-800F-47EA-B7BE-F88945C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F58-6FF6-4811-AB2A-650EB3F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AE4-6845-4500-9606-FE05CF4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5157-FF14-4CBB-B2B4-FB6453607F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