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6614"/>
        <c:axId val="47448776"/>
      </c:barChart>
      <c:catAx>
        <c:axId val="1616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48776"/>
        <c:crosses val="autoZero"/>
        <c:auto val="1"/>
        <c:lblAlgn val="ctr"/>
        <c:lblOffset val="100"/>
        <c:noMultiLvlLbl val="0"/>
      </c:catAx>
      <c:valAx>
        <c:axId val="47448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6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CA1-E77C-4ECA-A517-9A4893FF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571-6666-45BD-BA73-8531635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19E-6814-42C2-9D05-93F1D507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CF3-3EF1-45B1-A803-46AEF987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D7C-C738-4F06-B5B3-B954CAB2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3B9-BD2A-452A-9188-ACC90CDF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652-282A-4387-95B0-508B3DD1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021-31EF-46EB-A960-D18BA8CC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AF0-8A9A-4252-A9D2-B322262B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A4F-0D14-493C-8CD2-AA67719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EA5-9574-4CA1-930F-AD10E61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2D3-F968-43D7-AA6E-0129B03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2F69-6607-4BDA-AD18-F33D2519E9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