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52058"/>
        <c:axId val="15234983"/>
      </c:barChart>
      <c:catAx>
        <c:axId val="40652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34983"/>
        <c:crosses val="autoZero"/>
        <c:auto val="1"/>
        <c:lblAlgn val="ctr"/>
        <c:lblOffset val="100"/>
        <c:noMultiLvlLbl val="0"/>
      </c:catAx>
      <c:valAx>
        <c:axId val="15234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52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75D-AF70-40AD-A53F-AD6E92AD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31E-BA35-4B79-9035-2C2DF73F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2E5-1493-4A11-8E94-7FAE2EDB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D56-DE5E-4599-BBC0-2AE4908F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685-51FA-413B-AC62-D4FBEE8B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4EF-93E3-4819-8634-24CD487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AD1-60E8-4CEF-A6E9-6339609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31C-F0DA-46FC-839D-32A1C26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753-B4C5-4E57-9B69-F4DAB4B0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B0D-536A-4A61-B100-A28C153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FAD-A68D-4704-8F07-9E7A46F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668-EE7B-4DBF-953D-B30D279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E7AA9-EC3C-4E5C-A941-6269A3264F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