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03902"/>
        <c:axId val="75235231"/>
      </c:barChart>
      <c:catAx>
        <c:axId val="78403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35231"/>
        <c:crosses val="autoZero"/>
        <c:auto val="1"/>
        <c:lblAlgn val="ctr"/>
        <c:lblOffset val="100"/>
        <c:noMultiLvlLbl val="0"/>
      </c:catAx>
      <c:valAx>
        <c:axId val="75235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03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A86-2434-4AB2-B2DB-AD7EE4DD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4D1-8289-49C4-B7D5-354D8111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E2B-4281-4EC2-B87D-45CA9B00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F95-49E0-4A9D-A792-E895D475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14A-0A2D-4E27-BCF2-14D05572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B82-D9B8-42E4-965A-B73EA00F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782-DC30-49A3-A0CA-A6BB520A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A9E-E44C-4595-B998-DAFCDA26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57D-4C03-4006-88B9-2376135F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C80-2577-48A6-A456-4AAEB74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251-2008-40E1-AF76-6D4E4411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849-C59C-49C8-9585-08AE0322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EE84D-CF7F-4038-B9DB-A7CA82D698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