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90591"/>
        <c:axId val="33903913"/>
      </c:barChart>
      <c:catAx>
        <c:axId val="88690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03913"/>
        <c:crosses val="autoZero"/>
        <c:auto val="1"/>
        <c:lblAlgn val="ctr"/>
        <c:lblOffset val="100"/>
        <c:noMultiLvlLbl val="0"/>
      </c:catAx>
      <c:valAx>
        <c:axId val="33903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90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EEE-0021-4705-B052-5945688B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E39-FFC1-49B6-BC5F-7C6A8628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FC4-03F8-44A2-A80D-744B8BCA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EC9-D765-4142-9CCA-1AA98150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334F-FB69-4D05-BAF6-20362B51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7C9-B2B5-4FC6-B2FC-0D506166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70D-F73C-4D1A-A0DC-E1314639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840-2397-4433-AAA6-F9C4EAF4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758-1E3D-4453-8D3F-2E1FC7E1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65D-AEBE-4DB0-9606-5B5587EE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A4C-BB58-4A3C-814A-530C03F5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633-FAB2-458E-818C-370BB3C5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68107-40CA-4549-8CC6-83B7BFE138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